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6F9E-A237-45F9-B00F-4A6F614C51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71C4-5F60-4928-97A6-8B546926E9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BC84-4ACE-46AD-8856-E2415891398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62D-1ABB-4F54-95AE-6123C83E794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5BE-2970-4835-8AF2-A35F195E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FF5-BDC9-4B2C-8F80-C8EB5B5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1E7-F723-4B89-8E10-CC8A154F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0CA-E0F3-4542-83B2-A901B695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405-620E-4A54-8EB8-327AEFC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BBD-0FF2-41AC-83D0-86366A2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F32-4D3F-4F7C-9B8B-A291497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1D0-F304-4012-B43C-A173D6ED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A5F-B3A7-4AB3-B734-5EE78250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5F2-2F9D-44B8-9915-FEBF403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F3C-F2DA-4AC3-A3FA-0A96F8F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8F3-BE7C-4765-8225-34D9027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CA31-9FAF-46B1-B3E1-4AA7D20D2906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뉴턴과 과학혁명의 완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539640" y="404640"/>
          <a:ext cx="810108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8101080" cy="6093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뉴턴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자연철학의 수학적 원리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, 334-340, 350-352, 386-387, 407-415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쪽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질량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물질의 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중력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구심력은 어떤 관계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은 천상계와 지상계의 구분을 어떻게 없앴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명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명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의 역사적 의의는 무엇일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이 데카르트로부터 빚진 요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책 참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와 연금술로부터 빚진 요소를 생각해보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다큐멘터리 참고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12080" indent="-3553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뉴턴이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일반 주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를 쓴 이유는 무엇일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이 데카르트의 소용돌이 가설을 거부한 근거는 무엇인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은 신의 설계와 지배를 어떻게 논증하는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의 신은 데카르트의 신과 어떻게 다른가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39400" indent="-3553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뉴턴이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나는 가설을 세우지 않는다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 말한 이유는 무엇일까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0:27:54Z</dcterms:created>
  <dc:creator>zolaist</dc:creator>
  <dc:description/>
  <dc:language>en-US</dc:language>
  <cp:lastModifiedBy>zolaist</cp:lastModifiedBy>
  <dcterms:modified xsi:type="dcterms:W3CDTF">2011-04-28T12:00:01Z</dcterms:modified>
  <cp:revision>12</cp:revision>
  <dc:subject/>
  <dc:title>뉴턴과 과학혁명의 완성</dc:title>
</cp:coreProperties>
</file>